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772D-7C10-47BF-8F73-682ED1AF28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D93E-37B3-4508-A9D5-2A0DB23DCC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1511-E800-4597-B916-5929D4996C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014-C125-4641-B2D1-0D6B040B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D17-A7AE-4CDC-B2C2-0C3A2556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BA9-AB59-487E-A8FF-FB4E1FCA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3EC-A75F-4AF4-A92C-99739D85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E7AE-0200-4BD6-A946-7BA32176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334E-3799-4653-BBC8-AF9DB6C3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DAA6-CD79-469F-91B3-7C5D4F3F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8AE0-9B2A-4209-88CE-49520461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54E7-1205-468E-BE65-0CC98622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5943-B495-4853-BD23-F64BC2EE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09AD-77E0-4BD6-868D-6D70031F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018-5730-4B6C-B1EC-69CC97A4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7162-B645-43B9-B4CF-9B4410D6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A21A-37C0-4D95-8F02-6DE97631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6219-1FEE-4D24-A565-49C5496A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D93D-5752-4F9C-A73A-B9A58D37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0A82-AD58-426B-B24B-402E3C71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8F5-96FA-42DD-B9B8-96321C17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E49-D70D-4599-8B9B-71D98A2F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358-DCEB-4419-8106-DB554006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8E5-0C5C-461F-A6DF-11CD36BF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AA9-463F-4D0E-91FA-79CA32AF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306-DE49-4E87-A2B6-7D923313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09A-D6B0-4454-A149-24A7E22B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F64B-3B74-4A27-9177-328DA3F6B43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8201-5201-43BB-BE3C-EFA479D0DC8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aes.gob.ar/es/Normativas/resoluciones/inacym/Resol.Inaes.4110.10.doc" TargetMode="External"/><Relationship Id="rId2" Type="http://schemas.openxmlformats.org/officeDocument/2006/relationships/hyperlink" Target="http://www.inaes.gob.ar/es/Normativas/resoluciones/inacym/Resol.Inaes.4110.10.doc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aes.gob.ar/es/EnLinea/como.asp" TargetMode="External"/><Relationship Id="rId2" Type="http://schemas.openxmlformats.org/officeDocument/2006/relationships/hyperlink" Target="http://www.inaes.gob.ar/es/EnLinea/como.asp" TargetMode="External"/><Relationship Id="rId3" Type="http://schemas.openxmlformats.org/officeDocument/2006/relationships/hyperlink" Target="http://www.inaes.gob.ar/es/EnLinea/como.asp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NOVEDAD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736560" y="1785960"/>
          <a:ext cx="78138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85960"/>
                    <a:ext cx="78138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BA77-D5E7-40B0-BF3A-3A286473347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odoni Bd BT"/>
              </a:rPr>
              <a:t>Res. Inaes N° 4110/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600200"/>
            <a:ext cx="748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odoni Bd BT"/>
              </a:rPr>
              <a:t>Res. Inaes N° 4110/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553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E3DD-68C0-4F7A-9572-BC876BFE83D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188640"/>
            <a:ext cx="78483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odoni Bd BT"/>
              </a:rPr>
              <a:t>Res. Inaes N° 4110/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7561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Bodoni Bd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doni Bd BT"/>
              </a:rPr>
              <a:t>Las entidades mutuales deben presentar la documentación contable, exigida por el Art. 19 y concordantes de la Ley 20321 y  resoluciones complementarias de la Autoridad de Contralor, en soporte papel del modo previsto en las citadas normas  y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Bodoni Bd BT"/>
              </a:rPr>
              <a:t>efectuar la transmisión electronica de los datos surgidos de sus Estados Contables al sitio Web del Instituto Nacional de Asociativismo y Economía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doni Bd BT"/>
              </a:rPr>
              <a:t>b) </a:t>
            </a:r>
            <a:r>
              <a:rPr b="1" lang="es-ES_tradnl" sz="2400" spc="-1" strike="noStrike">
                <a:solidFill>
                  <a:srgbClr val="ff0000"/>
                </a:solidFill>
                <a:latin typeface="Bodoni Bd BT"/>
              </a:rPr>
              <a:t>Aplicación para ejercicios sociales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Bodoni Bd BT"/>
              </a:rPr>
              <a:t>cerrados al 31 de diciembre de 2010</a:t>
            </a:r>
            <a:r>
              <a:rPr b="1" lang="es-ES_tradnl" sz="2400" spc="-1" strike="noStrike">
                <a:solidFill>
                  <a:srgbClr val="ff0000"/>
                </a:solidFill>
                <a:latin typeface="Bodoni Bd BT"/>
              </a:rPr>
              <a:t>,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Bodoni Bd BT"/>
              </a:rPr>
              <a:t>inclu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DFD5-D155-43FA-99F3-839620AC834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5800" y="275760"/>
            <a:ext cx="77248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Bodoni Bd BT"/>
              </a:rPr>
              <a:t>Normas Técni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6913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Bodoni Bd BT"/>
              </a:rPr>
              <a:t>El aplicativo contempla la aplicación de la ResoluciónTécnica 25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Bodoni Bd BT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Bodoni Bd BT"/>
              </a:rPr>
              <a:t>Aprobada por la Junta de Gobierno de la F.A.C.P.C.E. el 4 de Julio de 2008 (modificatoria de la R.T.11)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Bodoni Bd BT"/>
              </a:rPr>
              <a:t>Adoptada por el INAES según la Res. 1151 del 29/08/2002</a:t>
            </a:r>
            <a:r>
              <a:rPr b="1" lang="es-AR" sz="2400" spc="-1" strike="noStrike">
                <a:solidFill>
                  <a:srgbClr val="000000"/>
                </a:solidFill>
                <a:latin typeface="Bodoni Bd BT"/>
              </a:rPr>
              <a:t>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Bodoni Bd BT"/>
              </a:rPr>
              <a:t> </a:t>
            </a:r>
            <a:r>
              <a:rPr b="1" lang="es-AR" sz="2400" spc="-1" strike="noStrike">
                <a:solidFill>
                  <a:srgbClr val="ff0000"/>
                </a:solidFill>
                <a:latin typeface="Bodoni Bd BT"/>
              </a:rPr>
              <a:t>La R.T. 25, tuvo </a:t>
            </a:r>
            <a:r>
              <a:rPr b="1" lang="es-AR" sz="2400" spc="-1" strike="noStrike" u="sng">
                <a:solidFill>
                  <a:srgbClr val="ff0000"/>
                </a:solidFill>
                <a:uFillTx/>
                <a:latin typeface="Bodoni Bd BT"/>
              </a:rPr>
              <a:t>vigencia a partir del 1ro. de enero de 2009</a:t>
            </a:r>
            <a:r>
              <a:rPr b="1" lang="es-AR" sz="2400" spc="-1" strike="noStrike">
                <a:solidFill>
                  <a:srgbClr val="ff0000"/>
                </a:solidFill>
                <a:latin typeface="Bodoni Bd BT"/>
              </a:rPr>
              <a:t>.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80773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3800" spc="-1" strike="noStrike">
                <a:solidFill>
                  <a:srgbClr val="ffffff"/>
                </a:solidFill>
                <a:latin typeface="Arial"/>
              </a:rPr>
              <a:t>WWW.INAES.GOV.AR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042560" y="34286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liquear para obtener normativa y enviar consultas por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7201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PÁGINA INAES: WWW.INAES.GOV.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olución:</a:t>
            </a:r>
            <a:r>
              <a:rPr b="1" lang="es-ES" sz="20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4110/2010 [Balances de cooperativas y mutuales. ]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ch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28/12/2010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crip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Balances de cooperativas y mutuales. Transmisión electrónica de la información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Versión WOR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al elect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sa de Ayuda Cooperativas: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balancecoop@inaes.gob.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sa de Ayuda Mutuales: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balancemut@inaes.gob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ffffff"/>
                </a:solidFill>
                <a:latin typeface="Arial"/>
              </a:rPr>
              <a:t>WWW.INAES.GOV.A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Código de acce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Todavía no tiene su código de acceso? </a:t>
            </a:r>
            <a:r>
              <a:rPr b="0" lang="es-ES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aga </a:t>
            </a:r>
            <a:r>
              <a:rPr b="0" lang="es-ES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click</a:t>
            </a:r>
            <a:r>
              <a:rPr b="0" lang="es-ES" sz="32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 aq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n él no podrá acceder al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odoni Bd BT"/>
              </a:rPr>
              <a:t>Res. Inaes N° 4110/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54040" y="1600200"/>
            <a:ext cx="6235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odoni Bd BT"/>
              </a:rPr>
              <a:t>Res. Inaes N° 4110/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3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odoni Bd BT"/>
              </a:rPr>
              <a:t>Res. Inaes N° 4110/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323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23:00:38Z</dcterms:created>
  <dc:creator>diloretom</dc:creator>
  <dc:description/>
  <dc:language>en-US</dc:language>
  <cp:lastModifiedBy>olopez</cp:lastModifiedBy>
  <dcterms:modified xsi:type="dcterms:W3CDTF">2011-09-13T20:27:03Z</dcterms:modified>
  <cp:revision>4</cp:revision>
  <dc:subject/>
  <dc:title>    NOVEDADES</dc:title>
</cp:coreProperties>
</file>